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560E-51C9-47BF-9D04-5B628925DC8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F813-EB08-480F-A21C-B1801637D6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619A-D270-4B88-8D4D-B2D362B21F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FB5-7BCA-4484-B84C-B93FB61F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3558-E8B5-4527-B545-37F3D0AD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82D-10CA-4F7B-960D-2042BFFB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DF7-F318-4820-B149-A1B8EA14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B6A-3D97-45C4-9160-90836A01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052-C337-402A-967C-25C1EB51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8A14-31D0-4705-A2B9-9BE05DD1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7DB-FC96-4944-8D05-4D79A702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FD3-24F2-4FC5-993B-2E7135C6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D88-DEF3-4CD9-BBD0-03E02C8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6E2-23D8-46B1-85BB-3E02455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840-6DA6-4DE6-8A30-ADDDD855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9D6B-25CE-4586-8E65-DDE98751B4BC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0N_)R`RQXD[}`MSVS4%0]2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714680" y="2698920"/>
            <a:ext cx="623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幼圆"/>
                <a:ea typeface="幼圆"/>
              </a:rPr>
              <a:t>15. </a:t>
            </a: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大禹治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10382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86040" y="51102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陆宇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1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214720" y="23572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2862720" y="500040"/>
            <a:ext cx="28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继续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571760" y="1928880"/>
            <a:ext cx="556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吸取教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2934000" y="3429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疏导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2330280" y="3714840"/>
            <a:ext cx="131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421000" y="5072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疏导、开通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241720" y="-71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"/>
                <a:ea typeface="楷体"/>
              </a:rPr>
              <a:t>jìx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6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7120" y="1714680"/>
            <a:ext cx="8501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毒蛇猛兽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被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农业生产渐渐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恢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安居乐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114300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274560" y="2928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658320" y="17859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500040" y="15638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大家在被水淹过的土地上耕种，农业生产渐渐恢复了，百姓重新过上了</a:t>
            </a:r>
            <a:r>
              <a:rPr b="0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安居乐业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的生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十三年。这十三年里，他到处奔走，曾经三次路过自己家门口。可是他认为治水要紧，一次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十三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年。这十三年里，他到处奔走，曾经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三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路过自己家门口。可是他认为治水要紧，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一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23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247120" y="42876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三过家门而不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57120" y="12873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按照提示，复述故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85840" y="2948040"/>
            <a:ext cx="878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洪水使人们生活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鲧用筑坝挡水的办法，没有治好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治水，三过家门而不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用疏通河道的办法，带领人们治好了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曲线连接符 8"/>
          <p:cNvCxnSpPr/>
          <p:nvPr/>
        </p:nvCxnSpPr>
        <p:spPr>
          <a:xfrm>
            <a:off x="6714720" y="2857680"/>
            <a:ext cx="8578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28760" y="1000080"/>
            <a:ext cx="78580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读一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000160" y="28051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洪  难  道  灾    认  被  产  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t01c54c823b104db13b.jpg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0" y="57168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禹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夏后氏首领、夏朝开国君王。他最卓著的功绩，就是历来被传颂的治理了滔天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2"/>
          <p:cNvGrpSpPr/>
          <p:nvPr/>
        </p:nvGrpSpPr>
        <p:grpSpPr>
          <a:xfrm>
            <a:off x="642960" y="2071800"/>
            <a:ext cx="3313080" cy="3527280"/>
            <a:chOff x="642960" y="2071800"/>
            <a:chExt cx="3313080" cy="3527280"/>
          </a:xfrm>
        </p:grpSpPr>
        <p:sp>
          <p:nvSpPr>
            <p:cNvPr id="122" name="Rectangle 3"/>
            <p:cNvSpPr/>
            <p:nvPr/>
          </p:nvSpPr>
          <p:spPr>
            <a:xfrm>
              <a:off x="642960" y="207180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"/>
            <p:cNvSpPr/>
            <p:nvPr/>
          </p:nvSpPr>
          <p:spPr>
            <a:xfrm>
              <a:off x="642960" y="386244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>
              <a:off x="2299320" y="207180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5000760" y="2000160"/>
            <a:ext cx="3311280" cy="3529080"/>
            <a:chOff x="5000760" y="2000160"/>
            <a:chExt cx="3311280" cy="3529080"/>
          </a:xfrm>
        </p:grpSpPr>
        <p:sp>
          <p:nvSpPr>
            <p:cNvPr id="126" name="Rectangle 7"/>
            <p:cNvSpPr/>
            <p:nvPr/>
          </p:nvSpPr>
          <p:spPr>
            <a:xfrm>
              <a:off x="5000760" y="200016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5000760" y="379188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6656400" y="200016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0"/>
          <p:cNvSpPr/>
          <p:nvPr/>
        </p:nvSpPr>
        <p:spPr>
          <a:xfrm>
            <a:off x="539640" y="1773360"/>
            <a:ext cx="3816360" cy="390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洪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000760" y="164304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436040" y="428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左窄右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2"/>
          <p:cNvGrpSpPr/>
          <p:nvPr/>
        </p:nvGrpSpPr>
        <p:grpSpPr>
          <a:xfrm>
            <a:off x="755640" y="2187720"/>
            <a:ext cx="3313080" cy="3527280"/>
            <a:chOff x="755640" y="2187720"/>
            <a:chExt cx="3313080" cy="3527280"/>
          </a:xfrm>
        </p:grpSpPr>
        <p:sp>
          <p:nvSpPr>
            <p:cNvPr id="134" name="Rectangle 3"/>
            <p:cNvSpPr/>
            <p:nvPr/>
          </p:nvSpPr>
          <p:spPr>
            <a:xfrm>
              <a:off x="755640" y="2187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"/>
            <p:cNvSpPr/>
            <p:nvPr/>
          </p:nvSpPr>
          <p:spPr>
            <a:xfrm>
              <a:off x="755640" y="3978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2412000" y="2187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5072040" y="2214720"/>
            <a:ext cx="3311640" cy="3528720"/>
            <a:chOff x="5072040" y="2214720"/>
            <a:chExt cx="3311640" cy="3528720"/>
          </a:xfrm>
        </p:grpSpPr>
        <p:sp>
          <p:nvSpPr>
            <p:cNvPr id="138" name="Rectangle 7"/>
            <p:cNvSpPr/>
            <p:nvPr/>
          </p:nvSpPr>
          <p:spPr>
            <a:xfrm>
              <a:off x="5072040" y="2214720"/>
              <a:ext cx="3311640" cy="3528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5072040" y="4006080"/>
              <a:ext cx="331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6727680" y="2214720"/>
              <a:ext cx="0" cy="3528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0"/>
          <p:cNvSpPr/>
          <p:nvPr/>
        </p:nvSpPr>
        <p:spPr>
          <a:xfrm>
            <a:off x="755640" y="174132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被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143680" y="192888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认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610640" y="292896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5865120" y="200016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4450680" y="5875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主动避让有礼貌，巧妙穿插很友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2"/>
          <p:cNvGrpSpPr/>
          <p:nvPr/>
        </p:nvGrpSpPr>
        <p:grpSpPr>
          <a:xfrm>
            <a:off x="785880" y="2214720"/>
            <a:ext cx="3313080" cy="3527280"/>
            <a:chOff x="785880" y="2214720"/>
            <a:chExt cx="3313080" cy="3527280"/>
          </a:xfrm>
        </p:grpSpPr>
        <p:sp>
          <p:nvSpPr>
            <p:cNvPr id="148" name="Rectangle 3"/>
            <p:cNvSpPr/>
            <p:nvPr/>
          </p:nvSpPr>
          <p:spPr>
            <a:xfrm>
              <a:off x="785880" y="2214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"/>
            <p:cNvSpPr/>
            <p:nvPr/>
          </p:nvSpPr>
          <p:spPr>
            <a:xfrm>
              <a:off x="785880" y="4005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2442240" y="2214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6"/>
          <p:cNvGrpSpPr/>
          <p:nvPr/>
        </p:nvGrpSpPr>
        <p:grpSpPr>
          <a:xfrm>
            <a:off x="5143680" y="2286000"/>
            <a:ext cx="3311280" cy="3529080"/>
            <a:chOff x="5143680" y="2286000"/>
            <a:chExt cx="3311280" cy="3529080"/>
          </a:xfrm>
        </p:grpSpPr>
        <p:sp>
          <p:nvSpPr>
            <p:cNvPr id="152" name="Rectangle 7"/>
            <p:cNvSpPr/>
            <p:nvPr/>
          </p:nvSpPr>
          <p:spPr>
            <a:xfrm>
              <a:off x="5143680" y="228600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5143680" y="407772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6799320" y="228600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0"/>
          <p:cNvSpPr/>
          <p:nvPr/>
        </p:nvSpPr>
        <p:spPr>
          <a:xfrm>
            <a:off x="684360" y="178596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产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072040" y="2098800"/>
            <a:ext cx="3745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业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714240" y="500040"/>
            <a:ext cx="400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找主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5160240" y="3071880"/>
            <a:ext cx="322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一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 rot="376800">
            <a:off x="835200" y="326052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"/>
          <p:cNvGrpSpPr/>
          <p:nvPr/>
        </p:nvGrpSpPr>
        <p:grpSpPr>
          <a:xfrm>
            <a:off x="2786040" y="1071720"/>
            <a:ext cx="3313080" cy="3527280"/>
            <a:chOff x="2786040" y="1071720"/>
            <a:chExt cx="3313080" cy="3527280"/>
          </a:xfrm>
        </p:grpSpPr>
        <p:sp>
          <p:nvSpPr>
            <p:cNvPr id="162" name="Rectangle 3"/>
            <p:cNvSpPr/>
            <p:nvPr/>
          </p:nvSpPr>
          <p:spPr>
            <a:xfrm>
              <a:off x="2786040" y="1071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"/>
            <p:cNvSpPr/>
            <p:nvPr/>
          </p:nvSpPr>
          <p:spPr>
            <a:xfrm>
              <a:off x="2786040" y="2862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4442400" y="1071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0"/>
          <p:cNvSpPr/>
          <p:nvPr/>
        </p:nvSpPr>
        <p:spPr>
          <a:xfrm>
            <a:off x="2928960" y="714240"/>
            <a:ext cx="3786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道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9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2"/>
          <p:cNvGrpSpPr/>
          <p:nvPr/>
        </p:nvGrpSpPr>
        <p:grpSpPr>
          <a:xfrm>
            <a:off x="3000240" y="1214280"/>
            <a:ext cx="3313080" cy="3527640"/>
            <a:chOff x="3000240" y="1214280"/>
            <a:chExt cx="3313080" cy="3527640"/>
          </a:xfrm>
        </p:grpSpPr>
        <p:sp>
          <p:nvSpPr>
            <p:cNvPr id="168" name="Rectangle 3"/>
            <p:cNvSpPr/>
            <p:nvPr/>
          </p:nvSpPr>
          <p:spPr>
            <a:xfrm>
              <a:off x="3000240" y="1214280"/>
              <a:ext cx="3313080" cy="3527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"/>
            <p:cNvSpPr/>
            <p:nvPr/>
          </p:nvSpPr>
          <p:spPr>
            <a:xfrm>
              <a:off x="3000240" y="300528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>
              <a:off x="4656600" y="1214280"/>
              <a:ext cx="0" cy="352764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0"/>
          <p:cNvSpPr/>
          <p:nvPr/>
        </p:nvSpPr>
        <p:spPr>
          <a:xfrm>
            <a:off x="3112920" y="71424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357120" y="210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拓展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642960" y="1000080"/>
            <a:ext cx="7786800" cy="226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禹治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很久很久以前，滔滔的洪水淹没了农田，冲倒了房屋，害得老百姓无家可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下决心要治理洪水。他吃尽了千辛万苦，走遍了千山万水，仔细地察看水流和地形。他带领老百姓挖通了九条大河，劈开了九座大山，引导洪水流入了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在外治水</a:t>
            </a:r>
            <a:r>
              <a:rPr b="0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3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年，曾经三次路过自己的家门，但他一次也没有进去看一看，禹的儿子十多岁了，还不知道父亲是个什么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洪水被制服了，老百姓过上了安定的日子，大家非常感激这位治水的伟大英雄。从此，大禹的名字代代相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478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陆宇慧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28800" y="30718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42960" y="1571760"/>
            <a:ext cx="442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洪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528920" y="157176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304880" y="15717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泛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654560" y="85716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ó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3052440" y="4000680"/>
            <a:ext cx="17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海、流、治、淹、没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571760" y="1000080"/>
            <a:ext cx="60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形标注 4"/>
          <p:cNvSpPr/>
          <p:nvPr/>
        </p:nvSpPr>
        <p:spPr>
          <a:xfrm>
            <a:off x="3643200" y="428760"/>
            <a:ext cx="4643640" cy="2071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联系下文，我知道“泛滥”的意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85840" y="3200400"/>
            <a:ext cx="85010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生活痛苦极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:\滔滔洪水图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285920" y="1000080"/>
            <a:ext cx="6286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毒蛇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猛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兽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无数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灾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688480" y="392904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火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自然灾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142920" y="1357200"/>
            <a:ext cx="871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</a:t>
            </a: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生活痛苦极了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14200" y="1500120"/>
            <a:ext cx="850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只知道筑坝挡水  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仍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然没有消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214720" y="17146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14200" y="180828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挡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3357720" y="2357280"/>
            <a:ext cx="142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"/>
                <a:ea typeface="楷体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388680" y="350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阻挡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_</cp:lastModifiedBy>
  <dcterms:modified xsi:type="dcterms:W3CDTF">2017-08-22T05:47:43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